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B5FD-1B33-49B0-B154-B5A2A62A850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9F20-6C6F-4FF3-9D33-09F8082F28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F3EF-4FBD-4856-8160-33135340AE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DE10-C3BC-4363-B0B3-6608D88B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0B26-6BD4-4311-96A0-92138566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6D79E-3AB6-40C6-A513-4903BD3BEC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F5B2A-81D5-4446-9AB8-57CE43D1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414C-B733-4414-AE66-BB455B2E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4A677-6F0F-4A33-BE95-F72D86D0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023EB-E241-40F9-BB2F-8646D2BC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A007B-A9D8-4C6C-9C27-34F813C5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AE30D-5654-4298-ACF5-DF1E883A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ADD8-70E6-4F74-AE54-8E6FBE5B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90B22-E3A6-4722-BC17-3F34D3C4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7E61-8009-498D-A4D1-212AEB2B96F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54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二章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病毒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981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838080" y="1773360"/>
            <a:ext cx="704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：常用抗病毒药的临床应用及药疗监护的主要内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41580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无环鸟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广谱抗病毒药。在感染细胞内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聚酶，从而阻断病毒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合成，对正常细胞的作用较小。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带状疱疹病毒及乙型肝炎病毒也有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单纯疱疹病毒Ⅰ、Ⅱ型引起的多种感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2760" y="134100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。静脉滴注，一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65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：可引起一过性肌酐水平升高，与有肾毒性的药物合用，可增加肾毒性。可出现静脉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口服给药：不良反应少，除偶有头晕、呕吐、头痛外，几乎无毒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有一过性烧灼感或疼痛，小部分有红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眼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部分患者用后有一过性轻度疼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本品过敏者禁用。肾功能减退者、孕妇及哺乳期妇女慎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66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前应查尿常规及肾功能，充分稀释后给药，用药期间嘱患者大量饮水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00ml/d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以加速药物排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更换注射部位，以减少血栓性静脉炎的发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有一过性烧灼感或疼痛，小部分有皮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少数患者用眼膏后有一过性轻度疼痛，但不必终止治疗，愈后无明显后遗症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-30600"/>
            <a:ext cx="74768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二</a:t>
            </a: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其他抗病毒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80" y="287280"/>
          <a:ext cx="9124920" cy="6570720"/>
        </p:xfrm>
        <a:graphic>
          <a:graphicData uri="http://schemas.openxmlformats.org/drawingml/2006/table">
            <a:tbl>
              <a:tblPr/>
              <a:tblGrid>
                <a:gridCol w="2112840"/>
                <a:gridCol w="3641760"/>
                <a:gridCol w="33703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  名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特  点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3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。临床用于防治流感、腺病毒肺炎、甲型肝炎、疱疹及麻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溶血性贫血和骨髓功能抑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8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金刚烷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阻止病毒进入宿主细胞并抑制其复制。用于甲型流感的预防和早期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致畸胎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是一种逆转录酶抑制剂，艾滋病治疗首选药物，可改善临床症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头痛、肝毒性，停药可恢复，骨髓移植：白细胞减少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多聚酶而抑制病毒生长。用于治疗巨细胞病毒性视网膜炎、肺炎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可产生严重的肾毒性，其它包括电解质紊乱、癫痫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奥司他韦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抑制新形成的病毒颗粒从被染细胞释放而阻止病毒在体内的传播。主要用于流行性感冒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主要是消化道症状，还可出现咳嗽、眩晕、头痛、失眠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98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聚肌胞苷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(polyinosinic  polycytidylic acid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聚肌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同时具有增强免疫和抗肿瘤作用。用于慢性乙型肝炎、流行性出血热、流行性乙型脑炎、病毒性角膜炎、带状疱疹、各种疣类和呼吸道感染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由于本品为大分子物质，少数患者可出现严重过敏反应，对本品过敏者慎用。本药有致畸作用，孕妇禁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具有广谱抗病毒活性，亦具有免疫调节及抗肿瘤作用，主要用于治疗各型慢性病毒性乙型肝炎、带状疱疹，还用于恶性肿瘤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41:55Z</dcterms:modified>
  <cp:revision>110</cp:revision>
  <dc:subject/>
  <dc:title>内科护理学</dc:title>
</cp:coreProperties>
</file>